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7E9-2B4C-438F-9756-F62D7D6C5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F484-65EC-4F2C-AF8D-4C329F1F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F80C-C7B2-4CF1-9E25-88756F23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D24-6C3D-41AF-90BF-1741E5CB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8A34F-FCA1-4E23-BF3F-07070001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F2431-8CD5-4C2A-98FA-4FE56D05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7CB1B-27DC-4A27-AD4A-BCC5A96D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9B7F5-C8E3-431C-9159-4E50E0B2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E74B2-82A0-407D-BA55-27AA57BE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33B32-9804-4B86-9388-3BD3AEA5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C23D8-FCFB-44E1-81FC-8E7E0885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A1C7-FF22-4B91-9395-D21493CA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CBE3C-8F3F-4343-8555-0160C7EF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A3CD8-3F75-48F8-88B1-668C22CD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4E7F4-686C-4357-8AA0-E0E9D267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9C038-28F3-4B9A-8B09-E63E8BF7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17500-742C-469E-A9F1-45D320A3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B2E-0A34-403D-BA30-2DEFAB74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837-3A81-4087-8716-B55B7B5C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066-F3B1-463D-B4A5-774E7A04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7375-03EF-43C9-A17F-A8D8C7D1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0E9-1095-4891-A682-DB84D108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71F-49BC-4D1A-B0D3-27CCC66A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C7C-694C-4407-9CD8-6D5C5411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8A5F-5C3B-417A-859F-A781BE5635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8872-6666-4887-8405-285CC4DA42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Problems with the articles of confederation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28600" y="38095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ticles of confederation provided a weak government. Congress was not allowed to levy taxes and no state had conmen curren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ecks and bala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y this works is each branch of government has a way to keep the others form having too much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4:42:32Z</dcterms:created>
  <dc:creator>eric.tobin</dc:creator>
  <dc:description/>
  <dc:language>en-US</dc:language>
  <cp:lastModifiedBy>eric.tobin</cp:lastModifiedBy>
  <dcterms:modified xsi:type="dcterms:W3CDTF">2008-04-24T15:05:25Z</dcterms:modified>
  <cp:revision>3</cp:revision>
  <dc:subject/>
  <dc:title>Problems with the articles of confederation </dc:title>
</cp:coreProperties>
</file>